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629-8FF5-46AA-8A5F-1DBB5187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2F4-2E44-41F5-8C2E-DA3CC87F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073-9854-40BF-AD4B-12C6B992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46D-E564-4311-89A9-4AE50B04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56D-C2FE-410C-844E-AB0F35C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500-21EF-48F6-AF15-25748318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A58-535D-4940-90BB-35D74E45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D0D-1C0E-4783-B903-790C5990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396-0518-485E-80DA-AE83C5F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C4E-49B1-457A-AA2F-0DCCFC09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AEA-DC1F-4AA4-8DA1-2EB585E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417-9063-4F7C-A5CF-319AEF9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672-953A-4F91-B4EC-DB93D537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77724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istm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to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1148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St. Jude Art &amp; Technology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s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9093"/>
          <a:stretch/>
        </p:blipFill>
        <p:spPr>
          <a:xfrm>
            <a:off x="5257800" y="855720"/>
            <a:ext cx="35053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33520"/>
            <a:ext cx="16761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10080" y="380880"/>
            <a:ext cx="289584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e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2448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77120" y="38088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304920"/>
            <a:ext cx="30477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Christmas Car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72200" y="45720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29400" y="236232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Fu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685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523880"/>
            <a:ext cx="73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ve a Merry Christmas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2287800" cy="26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624852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or the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60948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Kin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1219320"/>
            <a:ext cx="38862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609480"/>
            <a:ext cx="182880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Dec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6172200"/>
            <a:ext cx="23623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the Tr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6248520"/>
            <a:ext cx="167652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a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te to Ch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0:51:10Z</dcterms:created>
  <dc:creator>Patrick J. Mooney</dc:creator>
  <dc:description/>
  <dc:language>en-US</dc:language>
  <cp:lastModifiedBy>Patrick J. Mooney</cp:lastModifiedBy>
  <dcterms:modified xsi:type="dcterms:W3CDTF">2011-12-15T13:22:33Z</dcterms:modified>
  <cp:revision>5</cp:revision>
  <dc:subject/>
  <dc:title>Slide 1</dc:title>
</cp:coreProperties>
</file>